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613A-D7B6-4E3E-9C0C-BEC879984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DA55-50F5-4704-A6C8-43D8C9505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81CE-BF76-4952-91A2-8533F7DB3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4892-B8F7-4F01-8C1C-83EF5CB67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74ECE-E4A8-45C0-B358-9D785FF61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A9314-1EB3-4EED-B9F9-6C012957C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46780-1986-49C3-9B69-F4BF53944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488C7-840C-4C30-B320-B1643A15F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44614-3E94-476E-908F-DB0293967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0BB18-7521-47C1-B43F-3B63AE66A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02FEF-9436-41B2-A448-4EA51C5E8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88B2-985A-498D-8838-FEBBB78EA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72598-F9D3-45C8-99D9-575EAFE71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1A01B-7C6D-47F7-96AE-1F23D077E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30CB6-55EC-4DF3-A086-1A21D3630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45D7C-5994-46A9-A912-80F0531B5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FAA5E-E997-46C4-B86C-3BDB92F95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6A6D-7087-44A2-849D-40D2CBD65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8A51-FD4C-4E13-BA2C-28F5E094F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ADDD-6AAF-4983-8CD9-0A9BDC844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3D67-B246-441F-B6BD-130885AA5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786E-5FD3-4E88-889B-E21AD5A92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4CA6-0263-46F2-8196-6C38BD178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0345-E059-475D-8E9C-077ADD12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A85BD-F068-45D9-8F09-865EF0E4EC19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FB5B6-3B21-4155-8046-17F363558612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Me llamo ____________  clase 8im</a:t>
            </a:r>
            <a:br>
              <a:rPr sz="3200"/>
            </a:b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La fecha es el 13 de noviembre del 2012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60093"/>
                </a:solidFill>
                <a:latin typeface="Verdana"/>
              </a:rPr>
              <a:t>Propósito # 15:</a:t>
            </a:r>
            <a:r>
              <a:rPr b="0" lang="es-ES_tradnl" sz="2400" spc="-1" strike="noStrike">
                <a:solidFill>
                  <a:srgbClr val="d60093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¿Te gustan las fiestas y los conciertos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60093"/>
                </a:solidFill>
                <a:latin typeface="Verdana"/>
              </a:rPr>
              <a:t>Actividad Inicial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TEXTO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ean p. 264-265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pia y responde las preguntas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Cuba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¿Qué hace el joven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España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2. ¿Qué hay en la Gran Vía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Chile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3. ¿Dónde esta Ponochile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Bolivia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4. ¿Qué tipo de instrumento musical es la zampoña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5. ¿De quién  es un instrumento tradicional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76320" y="268200"/>
            <a:ext cx="90676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Nicaragua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6. ¿En que ciudad esta en el Palacio Nacional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Argentina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7. ¿Donde esta La Boca? ¿Como son las casas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México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8. ¿Quien es una artista mexicana famosa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9. ¿Donde vivió ella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10. ¿Quien es su esposo? ¿Que tipo de artista es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762120" y="4267080"/>
            <a:ext cx="1962000" cy="23338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3733920" y="4191120"/>
            <a:ext cx="1866960" cy="24476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477120" y="4191120"/>
            <a:ext cx="1847880" cy="24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76320"/>
            <a:ext cx="82440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Verdana"/>
              </a:rPr>
              <a:t>Vocabulario Nuevo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El Cumpleaño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952880" y="4572000"/>
            <a:ext cx="2048040" cy="22384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57200" y="4724280"/>
            <a:ext cx="2467080" cy="18576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5867280" y="129528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609480" y="1828800"/>
            <a:ext cx="2895840" cy="15717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3620520" y="1066680"/>
            <a:ext cx="21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Verdana"/>
              </a:rPr>
              <a:t>The birthday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6934320" y="1219320"/>
            <a:ext cx="457200" cy="457200"/>
          </a:xfrm>
          <a:prstGeom prst="line">
            <a:avLst/>
          </a:prstGeom>
          <a:ln w="284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99360" y="3352680"/>
            <a:ext cx="14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99"/>
                </a:solidFill>
                <a:latin typeface="Verdana"/>
              </a:rPr>
              <a:t>La fiesta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898160" y="1752480"/>
            <a:ext cx="139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99"/>
                </a:solidFill>
                <a:latin typeface="Verdana"/>
              </a:rPr>
              <a:t>La torta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88920" y="2286000"/>
            <a:ext cx="14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99"/>
                </a:solidFill>
                <a:latin typeface="Verdana"/>
              </a:rPr>
              <a:t>El pastel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68480" y="2819520"/>
            <a:ext cx="13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99"/>
                </a:solidFill>
                <a:latin typeface="Verdana"/>
              </a:rPr>
              <a:t>La tarta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988600" y="3352680"/>
            <a:ext cx="185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99"/>
                </a:solidFill>
                <a:latin typeface="Verdana"/>
              </a:rPr>
              <a:t>El biscocho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04720" y="914400"/>
            <a:ext cx="15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99"/>
                </a:solidFill>
                <a:latin typeface="Verdana"/>
              </a:rPr>
              <a:t>Las vela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58680" y="533412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99"/>
                </a:solidFill>
                <a:latin typeface="Verdana"/>
              </a:rPr>
              <a:t>El regalo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931080" y="4572000"/>
            <a:ext cx="178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99"/>
                </a:solidFill>
                <a:latin typeface="Verdana"/>
              </a:rPr>
              <a:t>Los globo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011360" y="5105520"/>
            <a:ext cx="197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99"/>
                </a:solidFill>
                <a:latin typeface="Verdana"/>
              </a:rPr>
              <a:t>Las bomba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719400" y="5791320"/>
            <a:ext cx="18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99"/>
                </a:solidFill>
                <a:latin typeface="Verdana"/>
              </a:rPr>
              <a:t>Las vejiga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icadillo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5486400" y="3987720"/>
            <a:ext cx="2590920" cy="17272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609480" y="4114800"/>
            <a:ext cx="2800440" cy="16383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6553080" y="1066680"/>
            <a:ext cx="2295720" cy="19908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3429000" y="1219320"/>
            <a:ext cx="2581200" cy="17715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5"/>
          <a:stretch/>
        </p:blipFill>
        <p:spPr>
          <a:xfrm>
            <a:off x="533520" y="1219320"/>
            <a:ext cx="2409840" cy="19047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821320" y="3808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60093"/>
                </a:solidFill>
                <a:latin typeface="Verdana"/>
              </a:rPr>
              <a:t>Snack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17360" y="533520"/>
            <a:ext cx="25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99"/>
                </a:solidFill>
                <a:latin typeface="Verdana"/>
              </a:rPr>
              <a:t>Los cacahuate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654720" y="2971800"/>
            <a:ext cx="205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99"/>
                </a:solidFill>
                <a:latin typeface="Verdana"/>
              </a:rPr>
              <a:t>Las galletas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99"/>
                </a:solidFill>
                <a:latin typeface="Verdana"/>
              </a:rPr>
              <a:t>con queso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50240" y="3200400"/>
            <a:ext cx="223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99"/>
                </a:solidFill>
                <a:latin typeface="Verdana"/>
              </a:rPr>
              <a:t>Los vegetale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6699"/>
                </a:solidFill>
                <a:latin typeface="Verdana"/>
              </a:rPr>
              <a:t>crudo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200360" y="3124080"/>
            <a:ext cx="102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99"/>
                </a:solidFill>
                <a:latin typeface="Verdana"/>
              </a:rPr>
              <a:t>Maní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959400" y="5791320"/>
            <a:ext cx="217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99"/>
                </a:solidFill>
                <a:latin typeface="Verdana"/>
              </a:rPr>
              <a:t>Los refresco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797800" y="5730840"/>
            <a:ext cx="189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99"/>
                </a:solidFill>
                <a:latin typeface="Verdana"/>
              </a:rPr>
              <a:t>Las papita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228600" y="38088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 concierto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124080" cy="17492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3962520" y="1905120"/>
            <a:ext cx="4809960" cy="25938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3212280" y="457200"/>
            <a:ext cx="200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60093"/>
                </a:solidFill>
                <a:latin typeface="Verdana"/>
              </a:rPr>
              <a:t>The Concert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03520" y="3429000"/>
            <a:ext cx="189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99"/>
                </a:solidFill>
                <a:latin typeface="Verdana"/>
              </a:rPr>
              <a:t>Los boleto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54120" y="3902040"/>
            <a:ext cx="21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99"/>
                </a:solidFill>
                <a:latin typeface="Verdana"/>
              </a:rPr>
              <a:t>Las entrada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90960" y="1295280"/>
            <a:ext cx="201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99"/>
                </a:solidFill>
                <a:latin typeface="Verdana"/>
              </a:rPr>
              <a:t>Los musico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491880" y="129528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99"/>
                </a:solidFill>
                <a:latin typeface="Verdana"/>
              </a:rPr>
              <a:t>Los cantante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67560" y="4435560"/>
            <a:ext cx="15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99"/>
                </a:solidFill>
                <a:latin typeface="Verdana"/>
              </a:rPr>
              <a:t>La banda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964760" y="4892760"/>
            <a:ext cx="18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99"/>
                </a:solidFill>
                <a:latin typeface="Verdana"/>
              </a:rPr>
              <a:t>El conjunto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158520" y="5486400"/>
            <a:ext cx="26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99"/>
                </a:solidFill>
                <a:latin typeface="Verdana"/>
              </a:rPr>
              <a:t>El grupo musical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Verdana"/>
              </a:rPr>
              <a:t>Ejercicio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ee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Vocabulario 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. 266-267, en voz alt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pia y respon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Ejercicio 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. 268 (1-6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BOOK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leta p. 8.3-8.4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ring Exam 1 signed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2952720"/>
            <a:ext cx="824400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Verdana"/>
              </a:rPr>
              <a:t>Tarea # 15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3T05:36:11Z</dcterms:created>
  <dc:creator>Helen Zumaeta</dc:creator>
  <dc:description/>
  <dc:language>en-US</dc:language>
  <cp:lastModifiedBy>Helen Zumaeta</cp:lastModifiedBy>
  <dcterms:modified xsi:type="dcterms:W3CDTF">2012-11-13T18:50:41Z</dcterms:modified>
  <cp:revision>16</cp:revision>
  <dc:subject/>
  <dc:title>Me llamo ____________  clase 8im La fecha es el 13 de noviembre del 2012</dc:title>
</cp:coreProperties>
</file>